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684D6-2610-4DE2-8555-EF46D8647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5C123-EB53-4B4B-9F0B-2F0A73EDC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0269F-C12E-4CE0-B675-34561660E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1B9D6-7015-4D77-9D5F-09282889D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8A52C-2F02-41F6-B189-57DE797CA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EFF11-5911-47D7-8EA5-1D76101CD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BEBDE-2E86-4D77-A99B-5D62E88EF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50FD6-6F4D-4C79-8A69-F6F94439A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618FD-ED06-49B8-946B-EAF4F1B53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389F9-8DB3-402C-91BE-BF900670C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ECA6F-7EA4-433B-B836-9C996353F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7175E-C905-41B7-8FD2-C568BC06E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993D7-9FF8-4E27-A985-37ACFCBEF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C2EB1-3444-41C0-9154-3760D02C4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A32B5-D9DE-42C3-9297-1442F71A7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5E8F2-CF74-413A-905D-F1530F472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C83B7-485B-4D82-81FE-83075AADA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E423A-1B7A-44BF-8E04-C217BDD0D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58315-BBA4-4E6B-A254-35516A691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96945-BE98-4C5D-B62F-E9C0B7A02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FACEE-DDD8-4EC4-B75E-C6006E0F6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97C48-6FD0-429D-9DB1-920D5A532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3CD6A-A61D-4A08-9041-502AC4B87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E95A0-E6E5-4569-9DC5-DA7A85B6B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5FA15-488D-45C8-98CA-3D993A41442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97B14-AF3F-43ED-B601-35707DFD6AF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The 4 Purposes of Governmen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n Introducti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urposes of Governmen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aintain social order: avoid/resolve conflicts between people/groups through laws &amp; court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rovide public services: oversee health/safety issues that individuals can’t do themselv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rovide national security: protect from outside threats, oversee relations with other countri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ake economic decisions: provide national currency, avoid class conflict, attempt economic growth, create tax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Maintain Social Order: avoid/resolve conflicts in society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61" name="Picture 9" descr="police"/>
          <p:cNvPicPr/>
          <p:nvPr/>
        </p:nvPicPr>
        <p:blipFill>
          <a:blip r:embed="rId1"/>
          <a:stretch/>
        </p:blipFill>
        <p:spPr>
          <a:xfrm>
            <a:off x="990720" y="2438280"/>
            <a:ext cx="2895480" cy="259092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0" descr="polk_county_court_house"/>
          <p:cNvPicPr/>
          <p:nvPr/>
        </p:nvPicPr>
        <p:blipFill>
          <a:blip r:embed="rId2"/>
          <a:stretch/>
        </p:blipFill>
        <p:spPr>
          <a:xfrm>
            <a:off x="5000760" y="2260440"/>
            <a:ext cx="3333600" cy="321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Provide public services: oversee health/safety issues that can’t be dealt with individually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64" name="Picture 7" descr="garbage"/>
          <p:cNvPicPr/>
          <p:nvPr/>
        </p:nvPicPr>
        <p:blipFill>
          <a:blip r:embed="rId1"/>
          <a:stretch/>
        </p:blipFill>
        <p:spPr>
          <a:xfrm>
            <a:off x="457200" y="2354400"/>
            <a:ext cx="4038480" cy="30225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new-health-care-bill-facts-241x300"/>
          <p:cNvPicPr/>
          <p:nvPr/>
        </p:nvPicPr>
        <p:blipFill>
          <a:blip r:embed="rId2"/>
          <a:stretch/>
        </p:blipFill>
        <p:spPr>
          <a:xfrm>
            <a:off x="5519880" y="2436840"/>
            <a:ext cx="229536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Provide national security: protect from outside forces, deal with other countrie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67" name="Picture 7" descr="airportscreening"/>
          <p:cNvPicPr/>
          <p:nvPr/>
        </p:nvPicPr>
        <p:blipFill>
          <a:blip r:embed="rId1"/>
          <a:stretch/>
        </p:blipFill>
        <p:spPr>
          <a:xfrm>
            <a:off x="457200" y="1905120"/>
            <a:ext cx="4038480" cy="391932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8" descr="US_Army_Logo"/>
          <p:cNvPicPr/>
          <p:nvPr/>
        </p:nvPicPr>
        <p:blipFill>
          <a:blip r:embed="rId2"/>
          <a:stretch/>
        </p:blipFill>
        <p:spPr>
          <a:xfrm>
            <a:off x="5105520" y="1905120"/>
            <a:ext cx="3333600" cy="44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Make economic decisions: provide currency, avoid class conflict, economic growth, taxe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70" name="Picture 6" descr="federalreserve"/>
          <p:cNvPicPr/>
          <p:nvPr/>
        </p:nvPicPr>
        <p:blipFill>
          <a:blip r:embed="rId1"/>
          <a:stretch/>
        </p:blipFill>
        <p:spPr>
          <a:xfrm>
            <a:off x="1047600" y="2436840"/>
            <a:ext cx="2857680" cy="285732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7" descr="budget"/>
          <p:cNvPicPr/>
          <p:nvPr/>
        </p:nvPicPr>
        <p:blipFill>
          <a:blip r:embed="rId2"/>
          <a:stretch/>
        </p:blipFill>
        <p:spPr>
          <a:xfrm>
            <a:off x="4648320" y="2625840"/>
            <a:ext cx="4038480" cy="247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Your Assignmen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rovide an example of local, state, or federal government carrying out each of the 4 purposes of government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r each example, write a short explanation of why you chose that example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2T12:29:58Z</dcterms:created>
  <dc:creator>L-Net</dc:creator>
  <dc:description/>
  <dc:language>en-US</dc:language>
  <cp:lastModifiedBy>Danielson, Jason</cp:lastModifiedBy>
  <dcterms:modified xsi:type="dcterms:W3CDTF">2011-08-29T17:27:38Z</dcterms:modified>
  <cp:revision>8</cp:revision>
  <dc:subject/>
  <dc:title>Principles of Government</dc:title>
</cp:coreProperties>
</file>